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D55-7845-4135-AC7E-E744C4E2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765-3D60-4940-92A6-8C035C99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418D7-158F-4480-ADAF-F4C4098D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83877-D7D3-40A0-B207-A1FE812B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E84DF-0904-48C2-8145-D961079D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0CAFC-3BBC-4160-A6F7-9F33E71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A4A92-7FB4-4BCB-A084-9AC3C072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236A7-D057-44C8-923D-FF702F81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26190-F9F7-40B6-B708-EB7D13A2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DEBC9-532E-4DC3-B685-8E174A7D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D62C4-31B5-474D-9386-F3DE0CE5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E7131-E801-4777-B33E-418232B6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83D-B61C-4C07-B1AA-E73F576A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A6B04-5FBE-4F0D-8F3C-A3CE604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FCA00-D1B0-463B-87D6-646D4459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57F3B-9139-4041-BC04-95004C1C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37451-28E0-4B7D-95B5-A3AB4ECD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2F997-B5A1-4A42-BD0F-88A6C0F8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6A5FB-8303-4D2B-BD6B-0C9537E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0EC34-05C0-4A10-91DF-CB7B8A4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852DB-F578-479A-8B9D-20EF96E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02E32-E1E2-47E1-99A9-5072EFA4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8E1FA-1487-43DF-A021-AB5923D5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4CA-5054-42DA-8873-99426000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A2336-1D9F-49C9-9A9B-F8519DDB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A9E00-F3BF-4F2B-B184-CE6B174C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FF199-9229-45E7-AE8B-CC648CBB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346E-DC3E-4F4F-A31A-01A543AB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B7FBC-8567-4AB3-999E-3AC1EBC6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A6DB0-2B10-42C1-96BD-966E5844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2A1AD-58E8-4BE5-BA49-D1FFAD8C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0E975-7627-4227-BF4E-C77AF3AC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178E1-3085-4C3D-A077-D5DFA31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211DC-C960-4DB8-8B1D-5936A912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DC61-F6A3-4C14-AB98-3E3ABC55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9819D-FF09-4273-9431-54831174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59215-A790-44AC-9FCF-6712855F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B8741-FD23-4FB6-A624-FDE33721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3159F-BD22-4E9C-B3D8-A55C7363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5D012-DB78-45A4-A5BD-2473E0C8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D7405-09B1-43BC-A376-736E4A26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A1CAC-DEE8-4E28-BC7A-E8846014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6B95F-5269-4FA6-9071-C2AD4D4C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A308C-B1D2-4C29-BB92-935FEEF9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AB3C8-B2A9-4B6B-9FD4-74950CB4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B248-7AB5-4ECD-B0C8-8454882A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576CB-8B59-44D2-9263-5C62CC0C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A2E2B-197C-4C42-B59B-58CBAB1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EB839-6568-4E23-8F7A-D12167AA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81A2C-7AF2-4C54-B657-B93B8D78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DA2D4-1AA5-4F39-9FB0-BFE98CFB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7D83-189D-456C-9BF4-F24490B1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5C9C-C057-403B-B007-361D7869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FC44-E176-412A-9646-69476460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FD71-ED33-4011-A6E3-9422BE2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53BE-3C0C-48CC-82E9-4CD506C5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D42-A30A-4AE8-862A-E6410314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05BA-6054-4FB8-946A-A632795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F471-EDBF-4994-8ADE-9FE6E59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DBBD-1E75-44CA-A20D-F48AADD1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1605-C876-4FA9-A6C8-3D389B41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13DF-FDCD-45AD-9F04-650AD40C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8F57-1182-4E78-8EBA-B4420FE2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D3E6-0C3A-4B38-94E5-1BA2C2A4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1F9D-1981-45D2-BC96-B07EF55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F5EA-C887-4422-A1E7-CB2253C8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8B48-E2AE-4F8A-83A6-4877AEAB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E9E-2ED4-42EB-B675-E6DE0280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7F2E-D2C1-47F6-B049-B7ADD152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05DF-3577-4335-997F-A9BCECD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D624-4CC3-41CB-829C-D93E589F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9785-0B8D-438B-ADED-EE1BF08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38B7-DC9D-4151-A549-04A5C28A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E104-FB4B-4158-A973-94C30104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45387-5832-4874-A7A7-119C19EB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4DD7-600D-4521-AFB5-F89A247C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0DF8-7CA1-4FB3-B0A3-9A771F41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5DE9-1247-4FAA-9832-7ECD5ED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4E6-4561-4352-A0ED-E10EB291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47D2-0B2D-40A9-A331-AEC8E590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5519-9918-4014-9588-C1FDD665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A877-CDE5-4D63-8F93-668C8557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5ECE-3411-40A4-8438-E7C8B93C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23B37-3BFC-42AA-9065-29694DE0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DF20-0349-4199-8672-062076E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B539-D496-425C-846A-48D51B4D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AED2-983B-4E6A-8A35-60007F62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0B69-3F54-4619-8EBD-FD822BCB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732B-8BE0-4CC8-9DD6-24E68E33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91E-CC40-4EC7-AEAD-BB08792F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9A73C-033C-4AA7-AC60-1CCB0C3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7EBA-8F0F-4487-83A3-BE7E80B7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12FBF-A2C0-4DC3-B71C-82E5A81F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86B8B-9D64-4C4F-A02A-D1A34AA0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CD8B-1D4A-4966-9766-659755D8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AB66-E6F2-40E8-B3C9-E7A9DE7F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77D34-D28A-44C4-B03D-27C232D5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35499-1806-45EB-B75B-F506342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B0D73-BE98-4F03-9E18-64DC5274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22226-1B7D-4128-9129-A3E6941B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32F-3C2F-49F5-AEF0-13E62B34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E789C-979B-49AA-BB34-931D7541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44323-8E08-4453-A735-6DB836EF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C822-439E-4AD1-AD58-DD987A7A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480CD-F76A-4E20-BDD8-313A03D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8AD7-E708-414D-856C-A101F0CE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C7E0D-1584-4509-BC97-7022DB53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1C6FD-E743-422A-B0C9-47D2A638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6C31-3031-4431-8D35-9B6CC01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11D0C-5EA7-4C4C-9FF1-9A65297F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47059-5DC4-491C-BA21-A612426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C1B-6029-4000-9305-4E9CDA8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F26E6-C288-4B99-B7D1-AED867D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2F1C0-A13A-4C43-A42A-B0FCD019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D3382-A461-46F8-B912-40244709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B0BD4-283E-4A99-B8EA-460B8C49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2C0A-9885-4B07-BBF7-CA470DE8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16957-AB76-465A-8A57-A68DC233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BCCFB-781B-4E7E-9B6A-D9CB5628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3D9EA-1B13-45F7-A179-CBFDAD74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3CDD6-7EAE-48A2-850F-3E970033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1E7D-FCB5-41C9-9B2F-49ADEB56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03B-0CF8-4BC8-8B47-096EFC4F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E9758-1486-4571-9E8E-98EB810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701BB-B9F7-414B-BC1C-2AD8462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B40DF-3D05-46E8-874B-1FAFD4BC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63D23-0E6D-44DD-BF1B-860783AA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6A86C-609F-48EC-B493-B94C5798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AD59E-4993-41D5-A04F-922161D3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E56D2-8B7F-42C5-83DB-4093C6D2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2BFD0-6E47-4634-89FB-5BAF6560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D366B-4CCA-4B8E-A0E7-7FCB5C4F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38194-AF4F-4538-856D-E0B05A3B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2B1-B91A-4153-8E75-1E193D6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41FE1-116A-4214-B55E-ADEECB90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C7F79-B824-459C-B287-66DE751D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4C978-D328-423E-96E3-8252679C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2C7FD-1DDC-473C-A5FF-063B7ABB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8B84A-E746-43ED-871E-D377A29D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B64E4-6D2F-4832-8BE3-41B6776A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1FB77-01EF-4464-B6A7-DA00C4F7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9619E-3AA5-48C8-A823-ABAA2A18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3B246-AB13-45FF-B742-C320A871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BABDD-A690-4BA4-8A5E-C35DEF1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04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604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604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604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604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604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604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9478-3E4B-4F59-ACCB-0FA6D9BE7FA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72C-4EA7-4CA9-A77E-4E624F6CCF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42D9-F1AB-4251-8CBF-B22B98196C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0B56-5054-42C5-928C-6BB35755768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614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614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614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614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614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614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614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0F5F-C841-4045-AFBD-0B3681167B2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9FF6-B7BC-4703-8AA9-E977259D7D7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FF1B-F4E3-4E34-AB56-9BDEFBDAD32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2D72-0BBD-4C1F-B3B8-4120D3E4592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EF1D-AB0E-4390-8ECA-75C2A27835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5945-A831-44CC-847B-EF0C7103931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9B4B-9A8D-48A2-86E2-0452E9C965E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D8B8-E10A-4486-8C50-F9A748B3AC6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WordArt 2"/>
          <p:cNvSpPr txBox="1"/>
          <p:nvPr/>
        </p:nvSpPr>
        <p:spPr>
          <a:xfrm>
            <a:off x="1547640" y="1844640"/>
            <a:ext cx="619308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uFillTx/>
                <a:latin typeface="华文新魏"/>
              </a:rPr>
              <a:t>“</a:t>
            </a:r>
            <a:r>
              <a:rPr b="1" i="1" lang="zh-CN" sz="60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uFillTx/>
                <a:latin typeface="华文新魏"/>
              </a:rPr>
              <a:t>精彩极了”和“糟糕透了”</a:t>
            </a:r>
            <a:endParaRPr b="1" i="1" lang="en-US" sz="60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uFillTx/>
              <a:latin typeface="华文新魏"/>
              <a:ea typeface="华文新魏"/>
            </a:endParaRPr>
          </a:p>
        </p:txBody>
      </p:sp>
      <p:pic>
        <p:nvPicPr>
          <p:cNvPr id="507" name="Picture 5" descr="2005122225317806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2916360" y="2708280"/>
            <a:ext cx="316836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80720" y="1701720"/>
            <a:ext cx="856908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七点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七点一刻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七点半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父亲还没有回来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实在等不及了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611280" y="476280"/>
            <a:ext cx="81406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对不起，我自己会判断的。” 父亲开始读诗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我把头埋得低低的。 诗只有十行， 可我觉得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他读了几个小时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Line 3"/>
          <p:cNvSpPr/>
          <p:nvPr/>
        </p:nvSpPr>
        <p:spPr>
          <a:xfrm>
            <a:off x="1461960" y="1138320"/>
            <a:ext cx="4694400" cy="0"/>
          </a:xfrm>
          <a:prstGeom prst="line">
            <a:avLst/>
          </a:prstGeom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我看这首诗糟糕透了。” 父亲把诗</a:t>
            </a:r>
            <a:r>
              <a:rPr b="1" lang="zh-CN" sz="3800" spc="-1" strike="noStrike">
                <a:solidFill>
                  <a:srgbClr val="ff0066"/>
                </a:solidFill>
                <a:latin typeface="Arial"/>
                <a:ea typeface="楷体_GB2312"/>
              </a:rPr>
              <a:t>扔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回原处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755640" y="117360"/>
            <a:ext cx="8183520" cy="13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我的眼睛湿润了，头也沉重得抬不起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900000" y="260280"/>
            <a:ext cx="7812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我的 眼睛湿润了，头也沉重得抬不起来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我再也受不了了。我</a:t>
            </a:r>
            <a:r>
              <a:rPr b="0" i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楷体_GB2312"/>
              </a:rPr>
              <a:t>冲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出饭厅，</a:t>
            </a:r>
            <a:r>
              <a:rPr b="0" i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楷体_GB2312"/>
              </a:rPr>
              <a:t>跑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进自己的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（ 跑）       （走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房间，</a:t>
            </a:r>
            <a:r>
              <a:rPr b="0" i="1" lang="zh-CN" sz="2800" spc="-1" strike="noStrike" u="sng">
                <a:solidFill>
                  <a:srgbClr val="cc0000"/>
                </a:solidFill>
                <a:uFillTx/>
                <a:latin typeface="Times New Roman"/>
                <a:ea typeface="楷体_GB2312"/>
              </a:rPr>
              <a:t>扑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到床上失声痛哭起来。饭厅里，父母还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（躺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在为那首诗争吵着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611280" y="433440"/>
            <a:ext cx="803412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在饭厅里，父母还在为那首诗争吵着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539640" y="476280"/>
          <a:ext cx="7777080" cy="5194440"/>
        </p:xfrm>
        <a:graphic>
          <a:graphicData uri="http://schemas.openxmlformats.org/drawingml/2006/table">
            <a:tbl>
              <a:tblPr/>
              <a:tblGrid>
                <a:gridCol w="4422600"/>
                <a:gridCol w="3354480"/>
              </a:tblGrid>
              <a:tr h="80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 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母亲的评价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父亲的评价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   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“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亲爱的，发生了一件奇妙的事。巴迪写了一首诗，精彩极了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……”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 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“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我看这首诗糟糕透了。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”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 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“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亲爱的，我真不懂你是什么意思！这不是在你的公司。巴迪还是孩子，这是他写的第一首诗，他需要鼓励。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”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    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“</a:t>
                      </a: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宋体"/>
                        </a:rPr>
                        <a:t>我不明白，难道这世界上糟糕的诗还不够多么？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你是怎样看待这两种不同的评价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精彩极了”和“糟糕透了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母亲                      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慈祥                   严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鼓励）           （警告  提醒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3203640" y="4869000"/>
            <a:ext cx="1081080" cy="10080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Line 12"/>
          <p:cNvSpPr/>
          <p:nvPr/>
        </p:nvSpPr>
        <p:spPr>
          <a:xfrm flipH="1">
            <a:off x="4930920" y="4869000"/>
            <a:ext cx="1225440" cy="100800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巴德·舒尔伯特"/>
          <p:cNvPicPr/>
          <p:nvPr/>
        </p:nvPicPr>
        <p:blipFill>
          <a:blip r:embed="rId1"/>
          <a:stretch/>
        </p:blipFill>
        <p:spPr>
          <a:xfrm>
            <a:off x="466560" y="260280"/>
            <a:ext cx="2916360" cy="33577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3814920" y="65160"/>
            <a:ext cx="40384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本文作者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美国作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巴德</a:t>
            </a:r>
            <a:r>
              <a:rPr b="0" i="1" lang="zh-CN" sz="48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·</a:t>
            </a:r>
            <a:r>
              <a:rPr b="0" i="1" lang="zh-CN" sz="48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舒尔伯格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79280" y="37908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i="1" lang="zh-CN" sz="4000" spc="-1" strike="noStrike" u="sng">
                <a:solidFill>
                  <a:srgbClr val="006600"/>
                </a:solidFill>
                <a:uFillTx/>
                <a:latin typeface="宋体"/>
                <a:ea typeface="宋体"/>
              </a:rPr>
              <a:t>长大后的巴迪成了美国大名鼎鼎的作家。他又会怎样来理解父母</a:t>
            </a:r>
            <a:r>
              <a:rPr b="0" i="1" lang="zh-CN" sz="4000" spc="-1" strike="noStrike" u="sng">
                <a:solidFill>
                  <a:srgbClr val="0066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006600"/>
                </a:solidFill>
                <a:uFillTx/>
                <a:latin typeface="宋体"/>
                <a:ea typeface="宋体"/>
              </a:rPr>
              <a:t>精彩极了</a:t>
            </a:r>
            <a:r>
              <a:rPr b="0" i="1" lang="zh-CN" sz="4000" spc="-1" strike="noStrike" u="sng">
                <a:solidFill>
                  <a:srgbClr val="0066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4000" spc="-1" strike="noStrike" u="sng">
                <a:solidFill>
                  <a:srgbClr val="006600"/>
                </a:solidFill>
                <a:uFillTx/>
                <a:latin typeface="宋体"/>
                <a:ea typeface="宋体"/>
              </a:rPr>
              <a:t>和</a:t>
            </a:r>
            <a:r>
              <a:rPr b="0" i="1" lang="zh-CN" sz="4000" spc="-1" strike="noStrike" u="sng">
                <a:solidFill>
                  <a:srgbClr val="0066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4000" spc="-1" strike="noStrike" u="sng">
                <a:solidFill>
                  <a:srgbClr val="006600"/>
                </a:solidFill>
                <a:uFillTx/>
                <a:latin typeface="宋体"/>
                <a:ea typeface="宋体"/>
              </a:rPr>
              <a:t>糟糕透了</a:t>
            </a:r>
            <a:r>
              <a:rPr b="0" i="1" lang="zh-CN" sz="4000" spc="-1" strike="noStrike" u="sng">
                <a:solidFill>
                  <a:srgbClr val="0066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4000" spc="-1" strike="noStrike" u="sng">
                <a:solidFill>
                  <a:srgbClr val="006600"/>
                </a:solidFill>
                <a:uFillTx/>
                <a:latin typeface="宋体"/>
                <a:ea typeface="宋体"/>
              </a:rPr>
              <a:t>这样的评价呢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324000" y="1628640"/>
            <a:ext cx="842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搂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住  腼腆  自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豪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誊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写  位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置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公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司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  奇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妙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糟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糕  巴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迪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  出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慈祥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谨慎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  引入</a:t>
            </a: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歧</a:t>
            </a: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d9d8ec"/>
                </a:solidFill>
                <a:uFillTx/>
                <a:latin typeface="楷体_GB2312"/>
                <a:ea typeface="楷体_GB2312"/>
              </a:rPr>
              <a:t>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324000" y="54936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Arial"/>
                <a:ea typeface="隶书"/>
              </a:rPr>
              <a:t>学习生字新词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71280" y="1628280"/>
            <a:ext cx="7056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巴迪一天天长大了，他对父母的评价有新的认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（要求：找出含义深刻的句子，读一读，理解，然后在小组讨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027080" y="893520"/>
            <a:ext cx="64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我越来越体会到我当初是多么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幸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我有个慈祥的母亲，她常常对我说：“巴迪，这是你写的吗？精彩极了！”我还有个严厉的父亲，他总是皱着眉头，说：“这个糟糕透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作家，应该说生活中的每一个人，都需要来自母亲的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力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种爱的力量是灵感和创作的源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仅有这个是不全面的，它可能会把人引入歧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还需要警告的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力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平衡，需要有人时常提醒你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心，注意，总结，提高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179280" y="0"/>
            <a:ext cx="867888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这些年来，我少年时代听到的两种声音一直交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织在我的耳际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:        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精彩极了”， “糟糕透了”；“精彩                                                                极了”，“糟糕透了”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······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它们像两股风不断地向我吹来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我谨慎地把握住我生活的小船，使它不被哪一股风刮倒。                    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3564000" y="1268280"/>
            <a:ext cx="1150920" cy="71280"/>
            <a:chOff x="3564000" y="1268280"/>
            <a:chExt cx="1150920" cy="71280"/>
          </a:xfrm>
        </p:grpSpPr>
        <p:sp>
          <p:nvSpPr>
            <p:cNvPr id="549" name="Oval 6"/>
            <p:cNvSpPr/>
            <p:nvPr/>
          </p:nvSpPr>
          <p:spPr>
            <a:xfrm>
              <a:off x="3564000" y="1268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Oval 7"/>
            <p:cNvSpPr/>
            <p:nvPr/>
          </p:nvSpPr>
          <p:spPr>
            <a:xfrm>
              <a:off x="3924360" y="1268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4284720" y="1268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4643640" y="1268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3" name="Group 8"/>
          <p:cNvGrpSpPr/>
          <p:nvPr/>
        </p:nvGrpSpPr>
        <p:grpSpPr>
          <a:xfrm>
            <a:off x="1835280" y="1916280"/>
            <a:ext cx="1112760" cy="71280"/>
            <a:chOff x="1835280" y="1916280"/>
            <a:chExt cx="1112760" cy="71280"/>
          </a:xfrm>
        </p:grpSpPr>
        <p:sp>
          <p:nvSpPr>
            <p:cNvPr id="554" name="Oval 12"/>
            <p:cNvSpPr/>
            <p:nvPr/>
          </p:nvSpPr>
          <p:spPr>
            <a:xfrm>
              <a:off x="1835280" y="1916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5" name="Oval 13"/>
            <p:cNvSpPr/>
            <p:nvPr/>
          </p:nvSpPr>
          <p:spPr>
            <a:xfrm>
              <a:off x="2195640" y="1916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Oval 14"/>
            <p:cNvSpPr/>
            <p:nvPr/>
          </p:nvSpPr>
          <p:spPr>
            <a:xfrm>
              <a:off x="2543400" y="1916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Oval 15"/>
            <p:cNvSpPr/>
            <p:nvPr/>
          </p:nvSpPr>
          <p:spPr>
            <a:xfrm>
              <a:off x="2876760" y="1916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8" name="Group 13"/>
          <p:cNvGrpSpPr/>
          <p:nvPr/>
        </p:nvGrpSpPr>
        <p:grpSpPr>
          <a:xfrm>
            <a:off x="7935840" y="1243080"/>
            <a:ext cx="422280" cy="71280"/>
            <a:chOff x="7935840" y="1243080"/>
            <a:chExt cx="422280" cy="71280"/>
          </a:xfrm>
        </p:grpSpPr>
        <p:sp>
          <p:nvSpPr>
            <p:cNvPr id="559" name="Oval 16"/>
            <p:cNvSpPr/>
            <p:nvPr/>
          </p:nvSpPr>
          <p:spPr>
            <a:xfrm>
              <a:off x="7935840" y="12430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Oval 17"/>
            <p:cNvSpPr/>
            <p:nvPr/>
          </p:nvSpPr>
          <p:spPr>
            <a:xfrm>
              <a:off x="8286840" y="12430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1" name="Group 16"/>
          <p:cNvGrpSpPr/>
          <p:nvPr/>
        </p:nvGrpSpPr>
        <p:grpSpPr>
          <a:xfrm>
            <a:off x="395280" y="1844640"/>
            <a:ext cx="409680" cy="71280"/>
            <a:chOff x="395280" y="1844640"/>
            <a:chExt cx="409680" cy="71280"/>
          </a:xfrm>
        </p:grpSpPr>
        <p:sp>
          <p:nvSpPr>
            <p:cNvPr id="562" name="Oval 18"/>
            <p:cNvSpPr/>
            <p:nvPr/>
          </p:nvSpPr>
          <p:spPr>
            <a:xfrm>
              <a:off x="395280" y="184464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Oval 19"/>
            <p:cNvSpPr/>
            <p:nvPr/>
          </p:nvSpPr>
          <p:spPr>
            <a:xfrm>
              <a:off x="733320" y="1844640"/>
              <a:ext cx="7164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4" name="Text Box 23"/>
          <p:cNvSpPr/>
          <p:nvPr/>
        </p:nvSpPr>
        <p:spPr>
          <a:xfrm>
            <a:off x="6372360" y="249228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5" name="Group 20"/>
          <p:cNvGrpSpPr/>
          <p:nvPr/>
        </p:nvGrpSpPr>
        <p:grpSpPr>
          <a:xfrm>
            <a:off x="5796000" y="1268280"/>
            <a:ext cx="1150920" cy="71280"/>
            <a:chOff x="5796000" y="1268280"/>
            <a:chExt cx="1150920" cy="71280"/>
          </a:xfrm>
        </p:grpSpPr>
        <p:sp>
          <p:nvSpPr>
            <p:cNvPr id="566" name="Oval 6"/>
            <p:cNvSpPr/>
            <p:nvPr/>
          </p:nvSpPr>
          <p:spPr>
            <a:xfrm>
              <a:off x="5796000" y="1268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6156360" y="1268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516720" y="1268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6875640" y="1268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0" name="Group 25"/>
          <p:cNvGrpSpPr/>
          <p:nvPr/>
        </p:nvGrpSpPr>
        <p:grpSpPr>
          <a:xfrm>
            <a:off x="6877080" y="2492280"/>
            <a:ext cx="1112760" cy="71280"/>
            <a:chOff x="6877080" y="2492280"/>
            <a:chExt cx="1112760" cy="71280"/>
          </a:xfrm>
        </p:grpSpPr>
        <p:sp>
          <p:nvSpPr>
            <p:cNvPr id="571" name="Oval 12"/>
            <p:cNvSpPr/>
            <p:nvPr/>
          </p:nvSpPr>
          <p:spPr>
            <a:xfrm>
              <a:off x="6877080" y="2492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Oval 13"/>
            <p:cNvSpPr/>
            <p:nvPr/>
          </p:nvSpPr>
          <p:spPr>
            <a:xfrm>
              <a:off x="7237440" y="2492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Oval 14"/>
            <p:cNvSpPr/>
            <p:nvPr/>
          </p:nvSpPr>
          <p:spPr>
            <a:xfrm>
              <a:off x="7585200" y="2492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7918560" y="2492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5" name="Group 30"/>
          <p:cNvGrpSpPr/>
          <p:nvPr/>
        </p:nvGrpSpPr>
        <p:grpSpPr>
          <a:xfrm>
            <a:off x="4356000" y="2492280"/>
            <a:ext cx="409680" cy="71280"/>
            <a:chOff x="4356000" y="2492280"/>
            <a:chExt cx="409680" cy="71280"/>
          </a:xfrm>
        </p:grpSpPr>
        <p:sp>
          <p:nvSpPr>
            <p:cNvPr id="576" name="Oval 18"/>
            <p:cNvSpPr/>
            <p:nvPr/>
          </p:nvSpPr>
          <p:spPr>
            <a:xfrm>
              <a:off x="4356000" y="249228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Oval 19"/>
            <p:cNvSpPr/>
            <p:nvPr/>
          </p:nvSpPr>
          <p:spPr>
            <a:xfrm>
              <a:off x="4694040" y="2492280"/>
              <a:ext cx="7164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647640" y="146160"/>
            <a:ext cx="817236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我从心底里知道，“精彩极了”  也好，“糟糕透了”  也好，这两个极端的断言有一个共同的出发点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——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那就是爱。在爱的鼓舞下，我努力地向前驶去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2124000" y="2060640"/>
            <a:ext cx="1170000" cy="71280"/>
            <a:chOff x="2124000" y="2060640"/>
            <a:chExt cx="1170000" cy="71280"/>
          </a:xfrm>
        </p:grpSpPr>
        <p:sp>
          <p:nvSpPr>
            <p:cNvPr id="580" name="Oval 7"/>
            <p:cNvSpPr/>
            <p:nvPr/>
          </p:nvSpPr>
          <p:spPr>
            <a:xfrm>
              <a:off x="2124000" y="206064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1" name="Oval 8"/>
            <p:cNvSpPr/>
            <p:nvPr/>
          </p:nvSpPr>
          <p:spPr>
            <a:xfrm>
              <a:off x="2498760" y="206064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2" name="Oval 9"/>
            <p:cNvSpPr/>
            <p:nvPr/>
          </p:nvSpPr>
          <p:spPr>
            <a:xfrm>
              <a:off x="2860560" y="2060640"/>
              <a:ext cx="7164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Oval 10"/>
            <p:cNvSpPr/>
            <p:nvPr/>
          </p:nvSpPr>
          <p:spPr>
            <a:xfrm>
              <a:off x="3222720" y="2060640"/>
              <a:ext cx="71280" cy="71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340056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629080" y="87300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3924360" y="601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68784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7792920" y="516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9" name="Picture 7" descr="读书"/>
          <p:cNvPicPr/>
          <p:nvPr/>
        </p:nvPicPr>
        <p:blipFill>
          <a:blip r:embed="rId1"/>
          <a:stretch/>
        </p:blipFill>
        <p:spPr>
          <a:xfrm>
            <a:off x="1692360" y="1557360"/>
            <a:ext cx="7181640" cy="50846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8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179280" y="-241200"/>
            <a:ext cx="8642520" cy="61912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9"/>
          <p:cNvSpPr/>
          <p:nvPr/>
        </p:nvSpPr>
        <p:spPr>
          <a:xfrm>
            <a:off x="1116000" y="83664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971640" y="76500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3935520" y="765000"/>
            <a:ext cx="23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1332000" y="23493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1763640" y="2492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1332000" y="2276640"/>
            <a:ext cx="590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1403280" y="69228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1116000" y="549360"/>
            <a:ext cx="705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个人，应该说生活中的每一个人，都需要来自母亲的力量、鼓励、赞扬，那时获得成功的灵感和源泉，同时，也都需要父亲的严格、严厉要求的爱，他是让自己健康成长的航标灯。正因为“我”明白了父母的爱，所以在成长的过程中“我”才不会产生自卑和自傲，在爱的鼓舞下，不断前进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340056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2629080" y="87300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924360" y="601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368784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792920" y="516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4" name="Picture 7" descr="读书"/>
          <p:cNvPicPr/>
          <p:nvPr/>
        </p:nvPicPr>
        <p:blipFill>
          <a:blip r:embed="rId1"/>
          <a:stretch/>
        </p:blipFill>
        <p:spPr>
          <a:xfrm>
            <a:off x="1692360" y="1557360"/>
            <a:ext cx="7181640" cy="5084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179280" y="-241200"/>
            <a:ext cx="8642520" cy="61182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9"/>
          <p:cNvSpPr/>
          <p:nvPr/>
        </p:nvSpPr>
        <p:spPr>
          <a:xfrm>
            <a:off x="1116000" y="83664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971640" y="76500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3935520" y="765000"/>
            <a:ext cx="23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1332000" y="23493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1763640" y="2492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1332000" y="2276640"/>
            <a:ext cx="590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1187280" y="333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小练笔：在本文作者看来，爱有两种表现形式。你在生活中有过类似的感受吗？先说一说，再写下来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baseline="2000">
                <a:solidFill>
                  <a:srgbClr val="cc0000"/>
                </a:solidFill>
                <a:latin typeface="Arial"/>
              </a:rPr>
              <a:t>父爱 在拐弯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2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一天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弟弟在郊游时脚被尖利的石头割破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到医院包扎后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几个同学送他回家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br>
              <a:rPr sz="3200"/>
            </a:br>
            <a:r>
              <a:rPr b="1" lang="en-US" sz="3200" spc="-1" strike="noStrike" baseline="2000">
                <a:solidFill>
                  <a:srgbClr val="d9d8ec"/>
                </a:solidFill>
                <a:latin typeface="Arial"/>
                <a:ea typeface="楷体_GB2312"/>
              </a:rPr>
              <a:t>      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在家附近的巷口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弟弟碰见了爸爸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于是他一边翘起了扎了绷带的脚给爸爸看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一边哭丧着脸向他诉苦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满以为会收获一点同情与怜爱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不料爸爸并没有安慰他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只是简单交代几句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便自己走了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br>
              <a:rPr sz="3200"/>
            </a:br>
            <a:r>
              <a:rPr b="1" lang="en-US" sz="3200" spc="-1" strike="noStrike" baseline="2000">
                <a:solidFill>
                  <a:srgbClr val="d9d8ec"/>
                </a:solidFill>
                <a:latin typeface="Arial"/>
                <a:ea typeface="楷体_GB2312"/>
              </a:rPr>
              <a:t>      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弟弟很伤心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很委屈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也很生气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他觉得爸爸一点也不关心他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在他大发牢骚的时候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有个同学笑着劝道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:“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别生气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大部分老爸都这样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其实他很爱你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只是不善于表达罢了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不信你看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等会儿你爸爸走到前面拐弯的地方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他一定会回头看你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”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弟弟半信半疑，其他同学也很感兴趣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于是他们不约而同地停下脚步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站在那儿注视着爸爸远去的背影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br>
              <a:rPr sz="3200"/>
            </a:br>
            <a:r>
              <a:rPr b="1" lang="en-US" sz="3200" spc="-1" strike="noStrike" baseline="2000">
                <a:solidFill>
                  <a:srgbClr val="d9d8ec"/>
                </a:solidFill>
                <a:latin typeface="Arial"/>
                <a:ea typeface="楷体_GB2312"/>
              </a:rPr>
              <a:t>      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爸爸依然笃定地一步一步向前走去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好象没有什么东西会让他回头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可是当他走到拐弯处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就在他侧身拐弯的一刹那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好象不经意似的悄悄回过头来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很快的瞟了弟弟一眼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然后才消失在拐弯处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br>
              <a:rPr sz="3200"/>
            </a:br>
            <a:r>
              <a:rPr b="1" lang="en-US" sz="3200" spc="-1" strike="noStrike" baseline="2000">
                <a:solidFill>
                  <a:srgbClr val="d9d8ec"/>
                </a:solidFill>
                <a:latin typeface="Arial"/>
                <a:ea typeface="楷体_GB2312"/>
              </a:rPr>
              <a:t>        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虽然这一切都只发生在一瞬间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但却打动了在场所有的人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弟弟的眼睛里还闪着泪花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当弟弟把这件事告诉我时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我有一种想哭的感觉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很久以来我都在寻找一个能代表父爱的动作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现在终于找到了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那就是</a:t>
            </a:r>
            <a:r>
              <a:rPr b="1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---------</a:t>
            </a:r>
            <a:r>
              <a:rPr b="1" lang="zh-CN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拐弯处的回头</a:t>
            </a:r>
            <a:r>
              <a:rPr b="0" lang="en-US" sz="3200" spc="-1" strike="noStrike" baseline="2000">
                <a:solidFill>
                  <a:srgbClr val="d9d8ec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8ec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d9d8ec"/>
                </a:solidFill>
                <a:latin typeface="Arial"/>
              </a:rPr>
              <a:t>精彩极了”和“糟糕透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8ec"/>
                </a:solidFill>
                <a:latin typeface="Arial"/>
              </a:rPr>
              <a:t>母                      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8ec"/>
                </a:solidFill>
                <a:latin typeface="Arial"/>
              </a:rPr>
              <a:t>慈祥                   严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8ec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d9d8ec"/>
                </a:solidFill>
                <a:latin typeface="Arial"/>
              </a:rPr>
              <a:t>（鼓励）           （警告  提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lang="zh-CN" sz="6000" spc="-1" strike="noStrike">
                <a:solidFill>
                  <a:srgbClr val="cc0000"/>
                </a:solidFill>
                <a:latin typeface="Arial"/>
              </a:rPr>
              <a:t>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1"/>
          <p:cNvSpPr/>
          <p:nvPr/>
        </p:nvSpPr>
        <p:spPr>
          <a:xfrm>
            <a:off x="3203640" y="4365720"/>
            <a:ext cx="1008000" cy="86508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Line 12"/>
          <p:cNvSpPr/>
          <p:nvPr/>
        </p:nvSpPr>
        <p:spPr>
          <a:xfrm flipH="1">
            <a:off x="5076360" y="4437000"/>
            <a:ext cx="1368360" cy="792360"/>
          </a:xfrm>
          <a:prstGeom prst="line">
            <a:avLst/>
          </a:prstGeom>
          <a:ln w="19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20050801161247274"/>
          <p:cNvPicPr/>
          <p:nvPr/>
        </p:nvPicPr>
        <p:blipFill>
          <a:blip r:embed="rId1"/>
          <a:stretch/>
        </p:blipFill>
        <p:spPr>
          <a:xfrm>
            <a:off x="179280" y="404640"/>
            <a:ext cx="9144000" cy="62406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5076720" y="22114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66ff"/>
                </a:solidFill>
                <a:uFillTx/>
                <a:latin typeface="宋体"/>
                <a:ea typeface="华文新魏"/>
              </a:rPr>
              <a:t>出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（</a:t>
            </a:r>
            <a:r>
              <a:rPr b="0" i="1" lang="en-US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bǎn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）</a:t>
            </a:r>
            <a:r>
              <a:rPr b="0" i="1" lang="zh-CN" sz="3600" spc="-1" strike="noStrike" u="sng">
                <a:solidFill>
                  <a:srgbClr val="0066ff"/>
                </a:solidFill>
                <a:uFillTx/>
                <a:latin typeface="宋体"/>
                <a:ea typeface="华文新魏"/>
              </a:rPr>
              <a:t>版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5076720" y="30700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66ff"/>
                </a:solidFill>
                <a:uFillTx/>
                <a:latin typeface="宋体"/>
                <a:ea typeface="华文新魏"/>
              </a:rPr>
              <a:t>谨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（</a:t>
            </a:r>
            <a:r>
              <a:rPr b="0" i="1" lang="en-US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jǐn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）</a:t>
            </a:r>
            <a:r>
              <a:rPr b="0" i="1" lang="zh-CN" sz="3600" spc="-1" strike="noStrike" u="sng">
                <a:solidFill>
                  <a:srgbClr val="0066ff"/>
                </a:solidFill>
                <a:uFillTx/>
                <a:latin typeface="宋体"/>
                <a:ea typeface="华文新魏"/>
              </a:rPr>
              <a:t>慎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260360" y="22114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66ff"/>
                </a:solidFill>
                <a:uFillTx/>
                <a:latin typeface="宋体"/>
                <a:ea typeface="华文新魏"/>
              </a:rPr>
              <a:t>誊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（</a:t>
            </a:r>
            <a:r>
              <a:rPr b="0" i="1" lang="en-US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téng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）</a:t>
            </a:r>
            <a:r>
              <a:rPr b="0" i="1" lang="zh-CN" sz="3600" spc="-1" strike="noStrike" u="sng">
                <a:solidFill>
                  <a:srgbClr val="0066ff"/>
                </a:solidFill>
                <a:uFillTx/>
                <a:latin typeface="宋体"/>
                <a:ea typeface="华文新魏"/>
              </a:rPr>
              <a:t>写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1044720" y="29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华文新魏"/>
              </a:rPr>
              <a:t>歧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（</a:t>
            </a:r>
            <a:r>
              <a:rPr b="0" i="1" lang="en-US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qí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）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途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2340000" y="451008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66ff"/>
                </a:solidFill>
                <a:uFillTx/>
                <a:latin typeface="宋体"/>
                <a:ea typeface="华文新魏"/>
              </a:rPr>
              <a:t>腼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（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mi</a:t>
            </a:r>
            <a:r>
              <a:rPr b="0" i="1" lang="en-US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ǎ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n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）</a:t>
            </a:r>
            <a:r>
              <a:rPr b="0" i="1" lang="zh-CN" sz="3600" spc="-1" strike="noStrike" u="sng">
                <a:solidFill>
                  <a:srgbClr val="0066ff"/>
                </a:solidFill>
                <a:uFillTx/>
                <a:latin typeface="宋体"/>
                <a:ea typeface="华文新魏"/>
              </a:rPr>
              <a:t>腆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（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ti</a:t>
            </a:r>
            <a:r>
              <a:rPr b="0" i="1" lang="en-US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ǎ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n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WordArt 8"/>
          <p:cNvSpPr txBox="1"/>
          <p:nvPr/>
        </p:nvSpPr>
        <p:spPr>
          <a:xfrm>
            <a:off x="971640" y="141300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uFillTx/>
                <a:latin typeface="华文新魏"/>
              </a:rPr>
              <a:t>生字学习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971640" y="3789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兴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（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x</a:t>
            </a:r>
            <a:r>
              <a:rPr b="0" i="1" lang="en-US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ī 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ng)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奋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4"/>
          <p:cNvSpPr/>
          <p:nvPr/>
        </p:nvSpPr>
        <p:spPr>
          <a:xfrm>
            <a:off x="1951200" y="276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精彩极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5796000" y="177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糟糕透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4140360" y="1341360"/>
            <a:ext cx="1152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 u="sng">
                <a:solidFill>
                  <a:srgbClr val="000000"/>
                </a:solidFill>
                <a:uFillTx/>
                <a:latin typeface="Times New Roman"/>
              </a:rPr>
              <a:t>?    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Line 7"/>
          <p:cNvSpPr/>
          <p:nvPr/>
        </p:nvSpPr>
        <p:spPr>
          <a:xfrm>
            <a:off x="4711680" y="3797280"/>
            <a:ext cx="0" cy="30607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5280" y="43920"/>
            <a:ext cx="8540640" cy="52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彩云"/>
              </a:rPr>
              <a:t>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华文彩云"/>
              </a:rPr>
              <a:t>读一读，找一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自读 课文的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1--14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）自然段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父亲和母亲是怎样评价巴迪写的第一首诗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听到评价后巴迪的反应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父母的评价请用直线，我的反应用曲线，在旁边写上你的感受，再与同桌交流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MC900056434[1]"/>
          <p:cNvPicPr/>
          <p:nvPr/>
        </p:nvPicPr>
        <p:blipFill>
          <a:blip r:embed="rId1"/>
          <a:stretch/>
        </p:blipFill>
        <p:spPr>
          <a:xfrm>
            <a:off x="6948360" y="4508640"/>
            <a:ext cx="1703520" cy="19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826920" y="549360"/>
            <a:ext cx="784872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   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母亲一念完那首诗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眼睛亮亮地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兴奋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地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嚷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着：“巴迪，这是你写的吗？多美的诗啊！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精彩极了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！她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搂着我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，赞扬声雨点般落在我的身上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5" name="Picture 3" descr="0015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772400" y="5791320"/>
            <a:ext cx="1295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2360" y="685800"/>
            <a:ext cx="8591760" cy="21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既</a:t>
            </a: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腼腆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</a:t>
            </a: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意洋洋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点头告诉她这首诗确实是我写的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50920" y="1123560"/>
            <a:ext cx="8810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个下午我都怀着一种自豪感等待父亲回来。我用最漂亮的花体字把诗认认真真地重新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誊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遍，还用彩色笔在它的周围描上了一圈花边。将近七点钟的时候，我悄悄地走近饭厅，满怀信心地把它放在餐桌父亲的位置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60336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誊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工工整整地、认认真真地整理、抄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1:33:58Z</dcterms:created>
  <dc:creator/>
  <dc:description/>
  <dc:language>en-US</dc:language>
  <cp:lastModifiedBy>万润仪器贸易公司</cp:lastModifiedBy>
  <dcterms:modified xsi:type="dcterms:W3CDTF">2020-08-24T06:35:14Z</dcterms:modified>
  <cp:revision>19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